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CED-4B99-4EFF-9094-90A27110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C1F-DE5D-42C1-BBBE-26AAB66C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C9B-BA3C-4F4D-885A-14730F0A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FA1-5E75-443C-8919-BC09E1FF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0ED-68CC-448F-AF0E-253AA0DD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282-DD99-414B-B167-F6436FC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048-230D-48DA-902A-E54A4A3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BC3-8031-46A1-9F2B-5FE53EC9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D72-CBE5-4C95-AD35-B5A9A301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48E-06DA-41EB-B6D4-12AEC7C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F5B-9633-4FCA-B274-76EF214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86B-0A0B-42E7-8784-EA43F0E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E6D-5C8D-46D3-AE17-520963907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0000"/>
                </a:solidFill>
                <a:latin typeface="Comic Sans MS"/>
              </a:rPr>
              <a:t>Les fossiles et les Ères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C’est vieux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3192480"/>
            <a:ext cx="5791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Foss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fossiles sont des restes d’organismes qui vivaient très longtemps pas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mot « fossile » vient du latin « fossilis » qui veut dire cre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Très souvent, le fossile est l’empreinte de l’organisme plutôt que de l’organisme lui-mê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8064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foss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Certains fossiles comme les « Stromatolithes » sont âgés d’environ 3.5 milliards d’années…Est-ce que c’est vieu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ssaie ce petit test: prend un papier et un stylo, ferme tes yeux et fais des points sur ton papier pendant 1 minute. Ouvre tes yeux. Si tu fais des points pendant 5 ans, sans arrêter, tu auras 1 milliard de poi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ères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Terre a subit beaucoup de changements durant son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scientistes ont trouvé des couches de roches appartenant à différentes périodes de l’évolution de la Te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Chaque période a été nommée à partir de l’endroit ou l’on a trouvé la formation rocheuse.  Exemple; Jurassique provient de roches trouvée dans le Jura (entre la France et la Suiss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715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Voici la liste des différentes périodes que la Terre a connu depuis 550 millions d’ann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=millions d’a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Quaternair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…………… (mainten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Tertiair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……………….. 65MA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débutant il y 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Crétac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………………... 140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26668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Jurass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..…20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ria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………....21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6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Perm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….......29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Carbonifè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....36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8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Dévon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……..41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9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Silur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……....44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Ordovic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....51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Cambr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…..….545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2-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Précambrie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…………….....4600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Des fossiles au N.-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On trouve surtout des fossiles dans les roches « sédimentaires ». Pourquoi on les appelle sédimentaires? Parce que ces roches sont le résultat de l’accumulation répétée de sédiments dans un bass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Qu’est-ce qu’un sédiment?   C’est des petits morceaux de roches qui se brisent à cause de l’eau, du vent et de la nei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Des fossiles au N.-B?  Oui, bien sû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9880" y="56008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1:14:23Z</dcterms:created>
  <dc:creator>nbdoe</dc:creator>
  <dc:description/>
  <dc:language>en-US</dc:language>
  <cp:lastModifiedBy>nbdoe</cp:lastModifiedBy>
  <dcterms:modified xsi:type="dcterms:W3CDTF">2008-12-04T14:42:15Z</dcterms:modified>
  <cp:revision>3</cp:revision>
  <dc:subject/>
  <dc:title>Les fossiles et les Ères </dc:title>
</cp:coreProperties>
</file>